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CCCC6-1008-4E23-AF3C-0D0FBCC2A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40E1-FE76-4D8A-AC9A-C1A7DE514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78761-A34A-4F36-A3B7-825B6DBA3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1AF7E-C27B-440A-AF48-9FAE7375C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2C127-CAC7-42A5-83DC-B19088DFF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F3B2E-74E2-4966-8236-61310037A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346D7-2660-4104-B508-CED8B1DD6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79BE2-46A8-4B11-B1E9-1EED8CDA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61E1B-528F-40A2-8198-4D5246F68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34B8D-572B-424A-96C3-EAB517F46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01ED1-4B44-484F-9173-B3007192C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425E-94BF-4A53-83AE-E010DC088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950F9-0AD6-4403-9FC5-984120E91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6913D-4ABC-40DF-A3C6-D46FDE650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FB535-7EC8-4B02-BB27-835652874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48479-AEC9-4EE2-997C-E72CAE2FF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ECBE5-45EE-4D96-AF5F-C55C7602E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11A8-9CBA-4652-8C7F-403CB9271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D742-BA57-4A0C-BBBB-FA7F3CBB5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8037-2AD3-493C-A24F-49EA948BC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4D59-1534-4351-918A-F7F96947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219B-8FD1-4C7A-84FB-EB9773F56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0E4AC-596F-4D0B-A092-242FC2CB3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EA2D-75A9-4CB6-ACC2-6B660FEEC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96FA-B505-4E8C-BFC8-DF84D4F488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EAD2-A3A2-4C25-B3A8-3BA78DFDEBD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ving Online Module</a:t>
            </a:r>
            <a:br>
              <a:rPr sz="3200"/>
            </a:br>
            <a:r>
              <a:rPr b="1" lang="en-US" sz="3200" spc="-1" strike="noStrike">
                <a:solidFill>
                  <a:srgbClr val="003366"/>
                </a:solidFill>
                <a:latin typeface="Arial"/>
              </a:rPr>
              <a:t>Lesson 25 </a:t>
            </a:r>
            <a:r>
              <a:rPr b="1" lang="en-US" sz="2800" spc="-1" strike="noStrike">
                <a:solidFill>
                  <a:srgbClr val="003366"/>
                </a:solidFill>
                <a:latin typeface="Arial"/>
              </a:rPr>
              <a:t>— </a:t>
            </a:r>
            <a:r>
              <a:rPr b="1" lang="en-US" sz="3200" spc="-1" strike="noStrike">
                <a:solidFill>
                  <a:srgbClr val="003366"/>
                </a:solidFill>
                <a:latin typeface="Arial"/>
              </a:rPr>
              <a:t>Interne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520"/>
            <a:ext cx="525780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 Is Always Changing</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constantly changing and reshaping it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loose association of many networks that connects millions of computers around the wor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nteroperability</a:t>
            </a:r>
            <a:r>
              <a:rPr b="0" lang="en-US" sz="2800" spc="-1" strike="noStrike">
                <a:solidFill>
                  <a:srgbClr val="003366"/>
                </a:solidFill>
                <a:latin typeface="Arial"/>
              </a:rPr>
              <a:t> means that all brands, models, and makes of computers can communicate with each other on the Interne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3D3E866-2C63-4995-B897-EA93B8A7E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s Allow Communic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8487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ifferent types of computers communicate with each other because they follow an set of rules that make the communication possi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et of rules is called a </a:t>
            </a:r>
            <a:r>
              <a:rPr b="0" i="1" lang="en-US" sz="2800" spc="-1" strike="noStrike">
                <a:solidFill>
                  <a:srgbClr val="003366"/>
                </a:solidFill>
                <a:latin typeface="Arial"/>
              </a:rPr>
              <a:t>protocol</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DDB2704-EB26-4653-A6DF-0CDB0F5F6A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CP/IP Protocol</a:t>
            </a:r>
            <a:endParaRPr b="1" lang="en-US" sz="3600" spc="-1" strike="noStrike">
              <a:solidFill>
                <a:srgbClr val="006666"/>
              </a:solidFill>
              <a:latin typeface="Arial"/>
            </a:endParaRPr>
          </a:p>
        </p:txBody>
      </p:sp>
      <p:sp>
        <p:nvSpPr>
          <p:cNvPr id="12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omputers communicate using TCP/IP protocol.</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CP/IP is the international standard for transmitting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CP establishes a connection between two host comput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P protocol allows you to enter an address of a computer and send something to that addr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enter an address as a domain nam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E1FA27D-58EF-4890-8502-CE5D5F5DB5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omain Name</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et computers all have a unique addr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omain name identifies a site on the Internet and allows a computer to connect to the site’s addr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xample of a domain na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
          <p:cNvSpPr/>
          <p:nvPr/>
        </p:nvSpPr>
        <p:spPr>
          <a:xfrm>
            <a:off x="3275280" y="5334120"/>
            <a:ext cx="3080880" cy="45972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microsoft.com</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62146B4-E5EB-41C0-8961-F99B824C3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ing the Internet from Home</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variety of ways to connect to the Internet for the home user:</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telephone line, with a dial-up modem or a dedicated high-speed telephone lin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cable modem and cable television connection</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wireless connection</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2000BF2-C5A6-4E2F-B050-FD07A364CC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ing the Internet from a Business or Public Location</a:t>
            </a:r>
            <a:endParaRPr b="1" lang="en-US" sz="3600" spc="-1" strike="noStrike">
              <a:solidFill>
                <a:srgbClr val="006666"/>
              </a:solidFill>
              <a:latin typeface="Arial"/>
            </a:endParaRPr>
          </a:p>
        </p:txBody>
      </p:sp>
      <p:sp>
        <p:nvSpPr>
          <p:cNvPr id="12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connect to the Internet from an office, aca-demic setting, or public venue, such as a library, you may connect to the Internet in other way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ocal area network and a network interface card (NIC) in your compu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high-speed leased line, such as ISDN (Integrated Services Digital Network) or DSL (Digital Subscriber L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wireless connec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D87CB8-832F-48E5-AC7A-3E4846F879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necting to the Internet: Step 1</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te an Internet service provider (ISP) or an online service.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SPs provide a connection or “on ramp” to the Internet.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nline services are large companies, such as America Online and MSN. </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6AE0689-6EFD-4A45-8409-2821265EA8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necting to the Internet: Step 2</a:t>
            </a: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 some type of telecommunications software to enable your computer to connect to another computer.</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r ISP or online service company will provide this softwar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may be able to use software already installed on a newer computer, especially if it is set up for a wireless connection.</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5C295FA-B3AA-4DEA-8667-D6D4BA1E8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necting to the Internet: Step 3</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need a software application called a Web browser to access the Web.</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st computers purchased today come with a browser already installed.</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you simply launch your browser to connect you to your ISP’s computer, which in turn connects you to the Interne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0678057-C414-4BDE-9463-18DC2AF29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owser Basics</a:t>
            </a:r>
            <a:endParaRPr b="1" lang="en-US" sz="3600" spc="-1" strike="noStrike">
              <a:solidFill>
                <a:srgbClr val="006666"/>
              </a:solidFill>
              <a:latin typeface="Arial"/>
            </a:endParaRPr>
          </a:p>
        </p:txBody>
      </p:sp>
      <p:sp>
        <p:nvSpPr>
          <p:cNvPr id="135" name="PlaceHolder 2"/>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a:t>
            </a:r>
            <a:r>
              <a:rPr b="0" i="1" lang="en-US" sz="2600" spc="-1" strike="noStrike">
                <a:solidFill>
                  <a:srgbClr val="003366"/>
                </a:solidFill>
                <a:latin typeface="Arial"/>
              </a:rPr>
              <a:t>browser</a:t>
            </a:r>
            <a:r>
              <a:rPr b="0" lang="en-US" sz="2600" spc="-1" strike="noStrike">
                <a:solidFill>
                  <a:srgbClr val="003366"/>
                </a:solidFill>
                <a:latin typeface="Arial"/>
              </a:rPr>
              <a:t> is a program that lets you retrieve documents from the Web.</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browser is an interface between you and the Interne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rowsers can display text and images, and newer browsers contain multimedia support as w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pular browsers are Internet Explorer and Netscape Navigator/Communicator.</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971F77D-9DC9-4EB2-A9AD-67A29642E3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the origin of the Interne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to connect to the Internet and how it works.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nderstand how to use a browser to surf the Interne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nderstand how to customize browser setting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ist the major features of the Internet and explain what they do.</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C322C79-51DD-47A3-A300-56A0A625B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owser Basics (cont.)</a:t>
            </a:r>
            <a:endParaRPr b="1" lang="en-US" sz="3600" spc="-1" strike="noStrike">
              <a:solidFill>
                <a:srgbClr val="006666"/>
              </a:solidFill>
              <a:latin typeface="Arial"/>
            </a:endParaRPr>
          </a:p>
        </p:txBody>
      </p:sp>
      <p:sp>
        <p:nvSpPr>
          <p:cNvPr id="137"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browser sends a message to the Web server to retrieve your requested Web pa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n the browser renders the HTML code to display the page on your computer.</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TML is the language used to create a Web document.</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navigate through the Web by using your mouse to point and click on hyperlinked words and images.</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9ED6864-1D47-4F7E-8DD2-1998E98C8C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 Explorer</a:t>
            </a:r>
            <a:br>
              <a:rPr sz="3600"/>
            </a:br>
            <a:r>
              <a:rPr b="1" lang="en-US" sz="3600" spc="-1" strike="noStrike">
                <a:solidFill>
                  <a:srgbClr val="006666"/>
                </a:solidFill>
                <a:latin typeface="Arial"/>
              </a:rPr>
              <a:t>Browser Window</a:t>
            </a:r>
            <a:endParaRPr b="1" lang="en-US" sz="3600" spc="-1" strike="noStrike">
              <a:solidFill>
                <a:srgbClr val="006666"/>
              </a:solidFill>
              <a:latin typeface="Arial"/>
            </a:endParaRPr>
          </a:p>
        </p:txBody>
      </p:sp>
      <p:pic>
        <p:nvPicPr>
          <p:cNvPr id="139" name="" descr=""/>
          <p:cNvPicPr/>
          <p:nvPr/>
        </p:nvPicPr>
        <p:blipFill>
          <a:blip r:embed="rId1"/>
          <a:stretch/>
        </p:blipFill>
        <p:spPr>
          <a:xfrm>
            <a:off x="2514600" y="2666880"/>
            <a:ext cx="4724280" cy="3378240"/>
          </a:xfrm>
          <a:prstGeom prst="rect">
            <a:avLst/>
          </a:prstGeom>
          <a:ln w="0">
            <a:noFill/>
          </a:ln>
        </p:spPr>
      </p:pic>
      <p:sp>
        <p:nvSpPr>
          <p:cNvPr id="140" name=""/>
          <p:cNvSpPr/>
          <p:nvPr/>
        </p:nvSpPr>
        <p:spPr>
          <a:xfrm>
            <a:off x="977040" y="27795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41" name=""/>
          <p:cNvSpPr/>
          <p:nvPr/>
        </p:nvSpPr>
        <p:spPr>
          <a:xfrm>
            <a:off x="993240" y="320040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42" name=""/>
          <p:cNvSpPr/>
          <p:nvPr/>
        </p:nvSpPr>
        <p:spPr>
          <a:xfrm>
            <a:off x="990720" y="37339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bar</a:t>
            </a:r>
            <a:endParaRPr b="0" lang="en-US" sz="1800" spc="-1" strike="noStrike">
              <a:solidFill>
                <a:srgbClr val="003366"/>
              </a:solidFill>
              <a:latin typeface="Arial"/>
            </a:endParaRPr>
          </a:p>
        </p:txBody>
      </p:sp>
      <p:sp>
        <p:nvSpPr>
          <p:cNvPr id="143" name=""/>
          <p:cNvSpPr/>
          <p:nvPr/>
        </p:nvSpPr>
        <p:spPr>
          <a:xfrm>
            <a:off x="7543800" y="2438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cess indicator</a:t>
            </a:r>
            <a:endParaRPr b="0" lang="en-US" sz="1800" spc="-1" strike="noStrike">
              <a:solidFill>
                <a:srgbClr val="003366"/>
              </a:solidFill>
              <a:latin typeface="Arial"/>
            </a:endParaRPr>
          </a:p>
        </p:txBody>
      </p:sp>
      <p:sp>
        <p:nvSpPr>
          <p:cNvPr id="144" name=""/>
          <p:cNvSpPr/>
          <p:nvPr/>
        </p:nvSpPr>
        <p:spPr>
          <a:xfrm>
            <a:off x="990720" y="5334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cument window</a:t>
            </a:r>
            <a:endParaRPr b="0" lang="en-US" sz="1800" spc="-1" strike="noStrike">
              <a:solidFill>
                <a:srgbClr val="003366"/>
              </a:solidFill>
              <a:latin typeface="Arial"/>
            </a:endParaRPr>
          </a:p>
        </p:txBody>
      </p:sp>
      <p:sp>
        <p:nvSpPr>
          <p:cNvPr id="145" name=""/>
          <p:cNvSpPr/>
          <p:nvPr/>
        </p:nvSpPr>
        <p:spPr>
          <a:xfrm>
            <a:off x="7543800" y="3276720"/>
            <a:ext cx="100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46" name=""/>
          <p:cNvSpPr/>
          <p:nvPr/>
        </p:nvSpPr>
        <p:spPr>
          <a:xfrm>
            <a:off x="7545600" y="380988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 button</a:t>
            </a:r>
            <a:endParaRPr b="0" lang="en-US" sz="1800" spc="-1" strike="noStrike">
              <a:solidFill>
                <a:srgbClr val="003366"/>
              </a:solidFill>
              <a:latin typeface="Arial"/>
            </a:endParaRPr>
          </a:p>
        </p:txBody>
      </p:sp>
      <p:sp>
        <p:nvSpPr>
          <p:cNvPr id="147" name=""/>
          <p:cNvSpPr/>
          <p:nvPr/>
        </p:nvSpPr>
        <p:spPr>
          <a:xfrm>
            <a:off x="7546320" y="502920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 bars</a:t>
            </a:r>
            <a:endParaRPr b="0" lang="en-US" sz="1800" spc="-1" strike="noStrike">
              <a:solidFill>
                <a:srgbClr val="003366"/>
              </a:solidFill>
              <a:latin typeface="Arial"/>
            </a:endParaRPr>
          </a:p>
        </p:txBody>
      </p:sp>
      <p:sp>
        <p:nvSpPr>
          <p:cNvPr id="148" name=""/>
          <p:cNvSpPr/>
          <p:nvPr/>
        </p:nvSpPr>
        <p:spPr>
          <a:xfrm flipV="1">
            <a:off x="1905120" y="2742840"/>
            <a:ext cx="6094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flipH="1">
            <a:off x="7162920" y="2819520"/>
            <a:ext cx="457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
          <p:cNvSpPr/>
          <p:nvPr/>
        </p:nvSpPr>
        <p:spPr>
          <a:xfrm flipH="1" flipV="1">
            <a:off x="7086600" y="3123720"/>
            <a:ext cx="53352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flipH="1" flipV="1">
            <a:off x="7162920" y="335232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H="1" flipV="1">
            <a:off x="7162920" y="4267080"/>
            <a:ext cx="45720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H="1">
            <a:off x="5715000" y="5181480"/>
            <a:ext cx="19051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V="1">
            <a:off x="2057400" y="2895480"/>
            <a:ext cx="5335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V="1">
            <a:off x="1905120" y="5257800"/>
            <a:ext cx="175248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flipV="1">
            <a:off x="1981080" y="3276360"/>
            <a:ext cx="60984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D1E6C3-8154-45AC-9D31-A88ADAABB9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owser Window Terminology</a:t>
            </a:r>
            <a:endParaRPr b="1" lang="en-US" sz="3600" spc="-1" strike="noStrike">
              <a:solidFill>
                <a:srgbClr val="006666"/>
              </a:solidFill>
              <a:latin typeface="Arial"/>
            </a:endParaRPr>
          </a:p>
        </p:txBody>
      </p:sp>
      <p:pic>
        <p:nvPicPr>
          <p:cNvPr id="158" name="" descr=""/>
          <p:cNvPicPr/>
          <p:nvPr/>
        </p:nvPicPr>
        <p:blipFill>
          <a:blip r:embed="rId1"/>
          <a:stretch/>
        </p:blipFill>
        <p:spPr>
          <a:xfrm>
            <a:off x="1468440" y="2481120"/>
            <a:ext cx="6151680" cy="36054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0EBB391-0090-46CA-AE8A-B24099AF0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unching the Browser</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usually launch your browser and connect to the Internet by double-clicking the browser’s icon on your desktop.</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will see your default home page when you connect to the Intern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view a particular site or page, enter the uniform resource locator (URL) for the page in the address bar and press Enter, or click the Go button.</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1996BF5-9C79-45C0-9759-3998902037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stomizing Browser Settings</a:t>
            </a:r>
            <a:endParaRPr b="1" lang="en-US" sz="3600" spc="-1" strike="noStrike">
              <a:solidFill>
                <a:srgbClr val="006666"/>
              </a:solidFill>
              <a:latin typeface="Arial"/>
            </a:endParaRPr>
          </a:p>
        </p:txBody>
      </p:sp>
      <p:sp>
        <p:nvSpPr>
          <p:cNvPr id="16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hange some settings on your browser, such as privacy settings and the default home page.</a:t>
            </a:r>
            <a:endParaRPr b="0" lang="en-US" sz="24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t is easy to change your browser’s home page so you can display a Web page you want to view frequently.</a:t>
            </a:r>
            <a:endParaRPr b="0" lang="en-US" sz="22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net Explorer provides access to browser settings from the Tools menu on the browser toolbar.</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the Internet Options menu entry to open a dialog box with tabs that display settings for security, privacy, connections, and the programs your browser automatically uses for Internet services such as         e-mail, newsgroups, and online conferencing.</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0A97EE9-E908-484C-9A4F-B7AED7000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Browser Settings:</a:t>
            </a:r>
            <a:br>
              <a:rPr sz="3600"/>
            </a:br>
            <a:r>
              <a:rPr b="1" lang="en-US" sz="3600" spc="-1" strike="noStrike">
                <a:solidFill>
                  <a:srgbClr val="006666"/>
                </a:solidFill>
                <a:latin typeface="Arial"/>
              </a:rPr>
              <a:t>Cookies</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s you become an experienced Internet user, you may want to change how your browser handles cooki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okies are small text files that are created by some Web pages when you visit the site.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must balance the ease of use provided by cookies, which remember Web sites and settings for you, with security issues and storage space availabl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80187B5-CFDA-45C8-97C4-EEFCF962A7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Browser Settings:</a:t>
            </a:r>
            <a:br>
              <a:rPr sz="3600"/>
            </a:br>
            <a:r>
              <a:rPr b="1" lang="en-US" sz="3600" spc="-1" strike="noStrike">
                <a:solidFill>
                  <a:srgbClr val="006666"/>
                </a:solidFill>
                <a:latin typeface="Arial"/>
              </a:rPr>
              <a:t>The Cache</a:t>
            </a:r>
            <a:endParaRPr b="1" lang="en-US" sz="3600" spc="-1" strike="noStrike">
              <a:solidFill>
                <a:srgbClr val="006666"/>
              </a:solidFill>
              <a:latin typeface="Arial"/>
            </a:endParaRPr>
          </a:p>
        </p:txBody>
      </p:sp>
      <p:sp>
        <p:nvSpPr>
          <p:cNvPr id="16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Internet files are temporarily stored in a folder called a </a:t>
            </a:r>
            <a:r>
              <a:rPr b="0" i="1" lang="en-US" sz="2400" spc="-1" strike="noStrike">
                <a:solidFill>
                  <a:srgbClr val="003366"/>
                </a:solidFill>
                <a:latin typeface="Arial"/>
              </a:rPr>
              <a:t>cache</a:t>
            </a:r>
            <a:r>
              <a:rPr b="0" lang="en-US" sz="2400" spc="-1" strike="noStrike">
                <a:solidFill>
                  <a:srgbClr val="003366"/>
                </a:solidFill>
                <a:latin typeface="Arial"/>
              </a:rPr>
              <a:t> on your hard disk as you view them.</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che is useful because it speeds up the display of pages you frequently visit.</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ernet Explorer opens these files directly from your hard disk instead of from the Web. </a:t>
            </a:r>
            <a:endParaRPr b="0" lang="en-US" sz="20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set the size of the temporary Internet files folder or empty the files stored in it by clicking the Settings button in the Temporary Internet files section of the General tab in the Internet Options dialog bo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D644B44-8417-4526-8737-D7C7DE53F6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Internet’s Services</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Internet is made up of many parts.</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ome of the more popular services includ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ail (covered in Lesson 24)</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ld Wide Web</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t roo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ling lis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T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sgrou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lletin boar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B8FD66-EC53-4C27-BF94-0C55704F7D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orld Wide Web</a:t>
            </a:r>
            <a:endParaRPr b="1" lang="en-US" sz="3600" spc="-1" strike="noStrike">
              <a:solidFill>
                <a:srgbClr val="006666"/>
              </a:solidFill>
              <a:latin typeface="Arial"/>
            </a:endParaRPr>
          </a:p>
        </p:txBody>
      </p:sp>
      <p:sp>
        <p:nvSpPr>
          <p:cNvPr id="17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World Wide Web is NOT the same thing as the Internet.</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Web is an application that uses the Internet.</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Web consists of millions of electronic files called Web pag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related collection of Web pages is a Web sit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eb sites can be created by businesses, organizations, and individua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DC2BBD5-B71E-4DC2-8DD7-0DF5E996E6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mithsonian Institution’s</a:t>
            </a:r>
            <a:br>
              <a:rPr sz="3600"/>
            </a:br>
            <a:r>
              <a:rPr b="1" lang="en-US" sz="3600" spc="-1" strike="noStrike">
                <a:solidFill>
                  <a:srgbClr val="006666"/>
                </a:solidFill>
                <a:latin typeface="Arial"/>
              </a:rPr>
              <a:t>Web Site Home Page</a:t>
            </a:r>
            <a:endParaRPr b="1" lang="en-US" sz="3600" spc="-1" strike="noStrike">
              <a:solidFill>
                <a:srgbClr val="006666"/>
              </a:solidFill>
              <a:latin typeface="Arial"/>
            </a:endParaRPr>
          </a:p>
        </p:txBody>
      </p:sp>
      <p:pic>
        <p:nvPicPr>
          <p:cNvPr id="172" name="" descr=""/>
          <p:cNvPicPr/>
          <p:nvPr/>
        </p:nvPicPr>
        <p:blipFill>
          <a:blip r:embed="rId1"/>
          <a:stretch/>
        </p:blipFill>
        <p:spPr>
          <a:xfrm>
            <a:off x="2286000" y="2535120"/>
            <a:ext cx="4648320" cy="348948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57157A2D-051F-475B-A70B-64E358471E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a recently visited Web site using the History feature. </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resh a Web page by reloading it directly from the Web sit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a Web site’s security makes it possible to safely provide private information. </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how to troubleshoot problems encountered when browsing Web pag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DED3DC9-3CF8-4C46-988E-5C4751DC1D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Makes a Web Page Work</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eb pages usually contain hyperlink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hyperlink can transport you to another page or site just by clicking on the hyperlink.</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Web has its own underlying protocols that make it possible for all kinds of computers all over the world to view Web pages in similar format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 is the protocol that defines how Web pages are formatted and transmitt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4A06D4F-3ABA-4F73-B51F-A1EB758FDA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66"/>
                </a:solidFill>
                <a:latin typeface="Arial"/>
              </a:rPr>
              <a:t>Hypertext Transfer Protocol (HTTP)</a:t>
            </a:r>
            <a:endParaRPr b="1" lang="en-US" sz="3500" spc="-1" strike="noStrike">
              <a:solidFill>
                <a:srgbClr val="006666"/>
              </a:solidFill>
              <a:latin typeface="Arial"/>
            </a:endParaRPr>
          </a:p>
        </p:txBody>
      </p:sp>
      <p:sp>
        <p:nvSpPr>
          <p:cNvPr id="17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nd and receive Web pages over the Internet because Web servers and Web browsers both can understand HTT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eb server is a computer that contains Web page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very Web server has its own IP address, and most have a domain name that identifies the IP addr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A9FF02-F26F-4A0E-B721-81AAC79E45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66"/>
                </a:solidFill>
                <a:latin typeface="Arial"/>
              </a:rPr>
              <a:t>Uniform Resource Locators (URLs)</a:t>
            </a:r>
            <a:endParaRPr b="1" lang="en-US" sz="3500" spc="-1" strike="noStrike">
              <a:solidFill>
                <a:srgbClr val="006666"/>
              </a:solidFill>
              <a:latin typeface="Arial"/>
            </a:endParaRPr>
          </a:p>
        </p:txBody>
      </p:sp>
      <p:sp>
        <p:nvSpPr>
          <p:cNvPr id="17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Web site has a unique address called a Uniform Resource Locator or URL.</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irst part of an URL indicates the protocol required to access the pa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second part of an URL specifies the IP address or a domain nam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top-level domain at the end of the URL indicates the type of organization or busin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BA83B86-B25F-45AD-BE96-524DE6D6744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n URL</a:t>
            </a:r>
            <a:endParaRPr b="1" lang="en-US" sz="3600" spc="-1" strike="noStrike">
              <a:solidFill>
                <a:srgbClr val="006666"/>
              </a:solidFill>
              <a:latin typeface="Arial"/>
            </a:endParaRPr>
          </a:p>
        </p:txBody>
      </p:sp>
      <p:sp>
        <p:nvSpPr>
          <p:cNvPr id="180" name=""/>
          <p:cNvSpPr/>
          <p:nvPr/>
        </p:nvSpPr>
        <p:spPr>
          <a:xfrm>
            <a:off x="2891520" y="3809880"/>
            <a:ext cx="4199400" cy="45972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smithsonian.org</a:t>
            </a:r>
            <a:endParaRPr b="0" lang="en-US" sz="2400" spc="-1" strike="noStrike">
              <a:solidFill>
                <a:srgbClr val="003366"/>
              </a:solidFill>
              <a:latin typeface="Arial"/>
            </a:endParaRPr>
          </a:p>
        </p:txBody>
      </p:sp>
      <p:sp>
        <p:nvSpPr>
          <p:cNvPr id="181" name=""/>
          <p:cNvSpPr/>
          <p:nvPr/>
        </p:nvSpPr>
        <p:spPr>
          <a:xfrm>
            <a:off x="1219320" y="251460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tocol indicates what rules are used to transmit and interpret the Web page codes.</a:t>
            </a:r>
            <a:endParaRPr b="0" lang="en-US" sz="1800" spc="-1" strike="noStrike">
              <a:solidFill>
                <a:srgbClr val="003366"/>
              </a:solidFill>
              <a:latin typeface="Arial"/>
            </a:endParaRPr>
          </a:p>
        </p:txBody>
      </p:sp>
      <p:sp>
        <p:nvSpPr>
          <p:cNvPr id="182" name=""/>
          <p:cNvSpPr/>
          <p:nvPr/>
        </p:nvSpPr>
        <p:spPr>
          <a:xfrm>
            <a:off x="2438280" y="4648320"/>
            <a:ext cx="25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indicates that the site is on the Web.</a:t>
            </a:r>
            <a:endParaRPr b="0" lang="en-US" sz="1800" spc="-1" strike="noStrike">
              <a:solidFill>
                <a:srgbClr val="003366"/>
              </a:solidFill>
              <a:latin typeface="Arial"/>
            </a:endParaRPr>
          </a:p>
        </p:txBody>
      </p:sp>
      <p:sp>
        <p:nvSpPr>
          <p:cNvPr id="183" name=""/>
          <p:cNvSpPr/>
          <p:nvPr/>
        </p:nvSpPr>
        <p:spPr>
          <a:xfrm>
            <a:off x="4651560" y="29718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omain name</a:t>
            </a:r>
            <a:endParaRPr b="0" lang="en-US" sz="1800" spc="-1" strike="noStrike">
              <a:solidFill>
                <a:srgbClr val="003366"/>
              </a:solidFill>
              <a:latin typeface="Arial"/>
            </a:endParaRPr>
          </a:p>
        </p:txBody>
      </p:sp>
      <p:sp>
        <p:nvSpPr>
          <p:cNvPr id="184" name=""/>
          <p:cNvSpPr/>
          <p:nvPr/>
        </p:nvSpPr>
        <p:spPr>
          <a:xfrm>
            <a:off x="5181480" y="464832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omain extension indicates what type of organization sponsors the Web site.</a:t>
            </a:r>
            <a:endParaRPr b="0" lang="en-US" sz="1800" spc="-1" strike="noStrike">
              <a:solidFill>
                <a:srgbClr val="003366"/>
              </a:solidFill>
              <a:latin typeface="Arial"/>
            </a:endParaRPr>
          </a:p>
        </p:txBody>
      </p:sp>
      <p:sp>
        <p:nvSpPr>
          <p:cNvPr id="185" name=""/>
          <p:cNvSpPr/>
          <p:nvPr/>
        </p:nvSpPr>
        <p:spPr>
          <a:xfrm>
            <a:off x="2666880" y="3352680"/>
            <a:ext cx="45720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flipV="1">
            <a:off x="3657600" y="4343400"/>
            <a:ext cx="3049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flipH="1">
            <a:off x="5334120" y="3276720"/>
            <a:ext cx="30456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flipH="1" flipV="1">
            <a:off x="6781320" y="4343400"/>
            <a:ext cx="3049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0BBF309-3C4B-4D50-AAA9-282540C788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ain Extension Abbreviations</a:t>
            </a:r>
            <a:endParaRPr b="1" lang="en-US" sz="3600" spc="-1" strike="noStrike">
              <a:solidFill>
                <a:srgbClr val="006666"/>
              </a:solidFill>
              <a:latin typeface="Arial"/>
            </a:endParaRPr>
          </a:p>
        </p:txBody>
      </p:sp>
      <p:pic>
        <p:nvPicPr>
          <p:cNvPr id="190" name="" descr=""/>
          <p:cNvPicPr/>
          <p:nvPr/>
        </p:nvPicPr>
        <p:blipFill>
          <a:blip r:embed="rId1"/>
          <a:stretch/>
        </p:blipFill>
        <p:spPr>
          <a:xfrm>
            <a:off x="990720" y="2514600"/>
            <a:ext cx="7138800" cy="2031840"/>
          </a:xfrm>
          <a:prstGeom prst="rect">
            <a:avLst/>
          </a:prstGeom>
          <a:ln w="0">
            <a:noFill/>
          </a:ln>
        </p:spPr>
      </p:pic>
      <p:sp>
        <p:nvSpPr>
          <p:cNvPr id="191" name="PlaceHolder 1"/>
          <p:cNvSpPr>
            <a:spLocks noGrp="1"/>
          </p:cNvSpPr>
          <p:nvPr>
            <p:ph/>
          </p:nvPr>
        </p:nvSpPr>
        <p:spPr>
          <a:xfrm>
            <a:off x="838080" y="4724280"/>
            <a:ext cx="7693200" cy="17100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b sites for organizations outside the United States may include a domain abbreviation that includes a country code, such as </a:t>
            </a:r>
            <a:r>
              <a:rPr b="0" i="1" lang="en-US" sz="2400" spc="-1" strike="noStrike">
                <a:solidFill>
                  <a:srgbClr val="003366"/>
                </a:solidFill>
                <a:latin typeface="Arial"/>
              </a:rPr>
              <a:t>uk</a:t>
            </a:r>
            <a:r>
              <a:rPr b="0" lang="en-US" sz="2400" spc="-1" strike="noStrike">
                <a:solidFill>
                  <a:srgbClr val="003366"/>
                </a:solidFill>
                <a:latin typeface="Arial"/>
              </a:rPr>
              <a:t> for the United Kingdom, </a:t>
            </a:r>
            <a:r>
              <a:rPr b="0" i="1" lang="en-US" sz="2400" spc="-1" strike="noStrike">
                <a:solidFill>
                  <a:srgbClr val="003366"/>
                </a:solidFill>
                <a:latin typeface="Arial"/>
              </a:rPr>
              <a:t>jp</a:t>
            </a:r>
            <a:r>
              <a:rPr b="0" lang="en-US" sz="2400" spc="-1" strike="noStrike">
                <a:solidFill>
                  <a:srgbClr val="003366"/>
                </a:solidFill>
                <a:latin typeface="Arial"/>
              </a:rPr>
              <a:t> for Japan, or </a:t>
            </a:r>
            <a:r>
              <a:rPr b="0" i="1" lang="en-US" sz="2400" spc="-1" strike="noStrike">
                <a:solidFill>
                  <a:srgbClr val="003366"/>
                </a:solidFill>
                <a:latin typeface="Arial"/>
              </a:rPr>
              <a:t>ca</a:t>
            </a:r>
            <a:r>
              <a:rPr b="0" lang="en-US" sz="2400" spc="-1" strike="noStrike">
                <a:solidFill>
                  <a:srgbClr val="003366"/>
                </a:solidFill>
                <a:latin typeface="Arial"/>
              </a:rPr>
              <a:t> for Canada.</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FBBF6BC-5B18-468E-8D34-5AE0ABAD948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t Rooms</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t rooms allow you to talk in real time to one or more people using the computer instead of a telepho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someone in the chat room sends a message, it appears on the screen for everyone else in that room.</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t rooms provide a place for people with common interests to communicate, but be cautious and do not give out personal inform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8E87AE1-C2D6-4398-8407-E1A32151277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ling Lists</a:t>
            </a:r>
            <a:endParaRPr b="1" lang="en-US" sz="3600" spc="-1" strike="noStrike">
              <a:solidFill>
                <a:srgbClr val="006666"/>
              </a:solidFill>
              <a:latin typeface="Arial"/>
            </a:endParaRPr>
          </a:p>
        </p:txBody>
      </p:sp>
      <p:sp>
        <p:nvSpPr>
          <p:cNvPr id="19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mailing list is group of people with a shared or common interes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ir e-mail addresses are collected into a group identified by a single nam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someone in the group posts a message, it is sent to everyone in the group.</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subscribe to a mailing list just like you subscribe to a magazi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list owner is the person who manages the lis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02B332-DA26-4AAF-B417-225F46C5B8C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sgroups and Bulletin Boards</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wsgroup is a discussion forum or type of bulletin 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bers post messages or responses to other mess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newsgroups have a moderator who reviews messages before posting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ssages are stored on a news serv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5F47859-ED40-4052-8588-213E367FDF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Conferencing</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925040" cy="47242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conferencing allows people to connect online for a class, a meeting, or even a family reunion.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reeware and commercial versions of software, such as CU-SeeMe, provide a chat setting with audio and video.</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ardware requirements include a microphone and speakers for audio and a digitizing camera for video. </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6630182-4A3C-4F8E-9E09-282CD3D6FB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Conferencing (cont.)</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conferencing offers many benefit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eople all over the world can meet without travel cost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allows equal time for all participant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reates a permanent record of the meeting.</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593DD96-D86F-4D7D-A588-5FD297555AC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ch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ok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na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 transfer protocol (FT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e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perlin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EB0C6586-097F-44DD-8C78-7AB0BCCAAAA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le Transfer Protocol (FTP)</a:t>
            </a:r>
            <a:endParaRPr b="1" lang="en-US" sz="3600" spc="-1" strike="noStrike">
              <a:solidFill>
                <a:srgbClr val="006666"/>
              </a:solidFill>
              <a:latin typeface="Arial"/>
            </a:endParaRPr>
          </a:p>
        </p:txBody>
      </p:sp>
      <p:sp>
        <p:nvSpPr>
          <p:cNvPr id="20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 transfer protocol (FTP) is used to download and upload files over the Intern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download a browser plug-in file, you are likely using FT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FTP servers require IDs and passwords to access the files on that server, but others permit anonymous acc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s you might want to download from an FTP server include software updates for your printer, an instruction manual, or a new program to test.</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34F8FB0-8523-445A-A3E5-55084109D59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istory Pane</a:t>
            </a:r>
            <a:endParaRPr b="1" lang="en-US" sz="3600" spc="-1" strike="noStrike">
              <a:solidFill>
                <a:srgbClr val="006666"/>
              </a:solidFill>
              <a:latin typeface="Arial"/>
            </a:endParaRPr>
          </a:p>
        </p:txBody>
      </p:sp>
      <p:sp>
        <p:nvSpPr>
          <p:cNvPr id="205" name="PlaceHolder 1"/>
          <p:cNvSpPr>
            <a:spLocks noGrp="1"/>
          </p:cNvSpPr>
          <p:nvPr>
            <p:ph/>
          </p:nvPr>
        </p:nvSpPr>
        <p:spPr>
          <a:xfrm>
            <a:off x="838080" y="2362320"/>
            <a:ext cx="5943600" cy="411480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r browser tracks sites you have visited for a certain period of tim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see a list of sites you have visited recently, click the History button on the toolbar to open the History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list of sites you have visited is organized by date, and the Web addresses in the list are hyperlinks.</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lear the History list by clicking the Clear History button on the General tab of the Internet Options dialog box.</a:t>
            </a:r>
            <a:endParaRPr b="0" lang="en-US" sz="2300" spc="-1" strike="noStrike">
              <a:solidFill>
                <a:srgbClr val="003366"/>
              </a:solidFill>
              <a:latin typeface="Arial"/>
            </a:endParaRPr>
          </a:p>
        </p:txBody>
      </p:sp>
      <p:pic>
        <p:nvPicPr>
          <p:cNvPr id="206" name="" descr=""/>
          <p:cNvPicPr/>
          <p:nvPr/>
        </p:nvPicPr>
        <p:blipFill>
          <a:blip r:embed="rId1"/>
          <a:stretch/>
        </p:blipFill>
        <p:spPr>
          <a:xfrm>
            <a:off x="6934320" y="2514600"/>
            <a:ext cx="172404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9728D3-51A3-40E4-AF7D-F115C5A1C88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oading and Refreshing</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get a message that a Web page cannot be displayed, click the Refresh button on the browser’s toolbar to reload the page directly from the Web si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your cache has an outdated version of a page that is loaded when you try to access a site, so the Refresh button is available to update the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8292F9-333E-4F89-821E-61DBCB55373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e Web Pages</a:t>
            </a:r>
            <a:endParaRPr b="1" lang="en-US" sz="3600" spc="-1" strike="noStrike">
              <a:solidFill>
                <a:srgbClr val="006666"/>
              </a:solidFill>
              <a:latin typeface="Arial"/>
            </a:endParaRPr>
          </a:p>
        </p:txBody>
      </p:sp>
      <p:sp>
        <p:nvSpPr>
          <p:cNvPr id="210"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sites used for financial transactions or    e-commerce are more secure than sites that simply provide inform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sites are secured through encrypted communi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Web sites require you to log in with a username and a passwor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3C1A3E2-5CE1-452B-8E73-B29FAB8F3C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e Web Pages (cont.)</a:t>
            </a:r>
            <a:endParaRPr b="1" lang="en-US" sz="36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may see a padlock icon or another indicator in the status bar of a Web page to indicate the information is sec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get a message questioning the security of a site, read the information carefully before deciding whether or not to provide sensitive informa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EAA1B8-0621-4A04-BB33-AFD16D11F37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Accessing Web Pages</a:t>
            </a:r>
            <a:endParaRPr b="1" lang="en-US" sz="3600" spc="-1" strike="noStrike">
              <a:solidFill>
                <a:srgbClr val="006666"/>
              </a:solidFill>
              <a:latin typeface="Arial"/>
            </a:endParaRPr>
          </a:p>
        </p:txBody>
      </p:sp>
      <p:sp>
        <p:nvSpPr>
          <p:cNvPr id="214" name="PlaceHolder 1"/>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problem when browsing the Web is a Page Not Found error, which may provide advice about how to trace a l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encounter slow or interrupted page loading, you may be using an outdated browser or the page may have many graphics or special featur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891E4E6-E44B-479C-B4C5-CD8CFE1DB6E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Accessing Web Pages (cont.)</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Spyware</a:t>
            </a:r>
            <a:r>
              <a:rPr b="0" lang="en-US" sz="2800" spc="-1" strike="noStrike">
                <a:solidFill>
                  <a:srgbClr val="003366"/>
                </a:solidFill>
                <a:latin typeface="Arial"/>
              </a:rPr>
              <a:t> is programming that is installed on your computer without your knowledge to gather information about your Web browsing habits or allow “remote control” access to your computer by a hack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rewall and other security measures can prevent spyware gaining access to your computer.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346520-0B32-4484-A44A-AA83A987964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gins of the Internet can be traced to the U.S. Department of Defense. The original name for the Internet was ARPA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aic was the Internet’s first browser, providing a graphical interface to information on the Web.</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98A3631-8226-410C-AB97-7B317561333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onnect to the Internet from a business or academic setting, you probably have a direct connection via a local area network and a network interface car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the home user, the most common types of Internet connection include a modem and telephone line, a cable modem connection, and a wireless connec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9C3F9EF-1EC8-42DF-A8F2-C6A4C31B48E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2"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onnect to the Internet, you need an Internet connection, telecommunications software, and a brows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browser is a software program you use to retrieve documents from the World Wide Web.</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3366"/>
                </a:solidFill>
                <a:latin typeface="Arial"/>
              </a:rPr>
              <a:t>Interoperability</a:t>
            </a:r>
            <a:r>
              <a:rPr b="0" lang="en-US" sz="2700" spc="-1" strike="noStrike">
                <a:solidFill>
                  <a:srgbClr val="003366"/>
                </a:solidFill>
                <a:latin typeface="Arial"/>
              </a:rPr>
              <a:t> means that all brands, models, and makes of computers can communicate with each other.</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71EF69F-DCEC-4460-A8A3-BE756510A75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pertext markup language (HT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pertext transfer protocol (HTT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sgrou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form resource locator (U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serv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A9546BC-F9A2-43D9-9F4C-144972BD143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4"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tocol is a standard format for transferring data between two devices. TCP/IP is the agreed-on international standard for transmitting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omain name identifies a site on the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s Internet Explorer and Netscape’s Navigator/Communicator are two of the most popular Web browser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4E811B5-45B0-4D64-A5BE-35ED2BE61B1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TTP protocol defines how Web messages are formatted and transmit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pages are linked through hyper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eb site address is referred to as the URL, or Uniform Resource Locator. Every Web page on the Internet has its own unique addres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04CE604-27AE-4160-BB62-2BD85A5BCA4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r home page is the first page that displays when you launch your 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eb and e-mail are two important applications that make use of the Internet. Other features of the Internet include chat rooms, mailing lists, newsgroups and bulletin boards, online conferencing, and file transfer protoco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292162B-D860-402C-BDEB-F3B4EF12B41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ccess a list of recently visited Web sites by clicking the History button on the browser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fresh button on the toolbar reloads a Web page directly from the Web site to provide the most up-to-date version of the pag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73D59DF-6EA3-4926-B715-4BC43494249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e Web sites encrypt information and require you to provide account information and/or a password for access to protect private data.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A9A4347-00F9-4945-B638-5FEB2EF8182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s accessing Web pages can involve compatibility issues with your software, Web pages that are no longer available, and spyware, a kind of software installed on your computer without your knowledge that can track your Web use or even control your comput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470D3FF-31A0-4264-BC8D-44957CBF441C}"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igins of the Interne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a worldwide network of smaller networ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evolved from ARPANET.</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RPANET network and was developed around 1969 as part of a government research projec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RPANET ceased to exist in 1990, but it continue through the Interne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09E2EAF-228B-4B63-B86F-7057F0A57C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igins of the World Wide Web</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ld Wide Web (WWW) began in 1989 a program that allowed pages to be “linked” through a formatting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rst Web browser, Mosaic, was released in 199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still growing at a fast r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9E8A8ED-2944-4B82-B27B-2809C7632A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s Impact on Society</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has changed how many organization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than two-thirds of Americans use the Internet at work, home, or scho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a primary research resource for many studen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6865624-BCD3-4ACE-93A6-C0130B660F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s Impact on Society (con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with disabilities can use the Internet to visit places they cannot physically get 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ld is interconnected because of the Internet and almost instant communic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5BD03E9-CA4A-41A4-9FC9-29C4C60F9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10-04-18T04:14:12Z</dcterms:modified>
  <cp:revision>47</cp:revision>
  <dc:subject/>
  <dc:title>kjjhghgff</dc:title>
</cp:coreProperties>
</file>